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063-BFBF-4236-B522-C103DF9C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584-9835-4A6A-A3C2-44D9DBE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9DB-DB5B-482F-AC4D-25D163DF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281-22E1-4AF6-8503-2A55C305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49B6-A651-4F79-B11F-FB7F2E24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B00-FDDF-4226-90E7-06B8159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D92-B9FE-4A7A-815C-27C96571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2EE4-5CE7-437A-896B-4D3A32B5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3BD7-49FB-465F-B1EF-932A5F1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BA65-9082-4930-B776-82F3FC4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9715-44A9-4802-A988-448E7E7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F8E-A3CD-4A00-BFE2-1AE076A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6C63-5114-472B-BC4A-145573D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669-EC67-47BB-AE06-5972F00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0DA-163B-41DE-883E-8BB711D6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8D7-F87A-44A4-85F0-C89385AB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C91A-3500-4DE1-9DE7-2C4D6EDB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0F4-691D-4481-8AC4-1F0C942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7AB-53E1-4920-BB79-FF385665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934-C8D6-48AF-A4DE-A8F61470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964-904C-4C5F-A727-0743C3B3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FD4-4D4D-49E8-93F8-E884585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902-A4C7-4991-99F3-D3A7A6F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354-2D85-4B95-873D-4934B9F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9FF-32E8-456F-AD4D-FEB463AE9D7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4E59-42C7-4F75-A0A3-302295BBBA9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bbd71"/>
                </a:solidFill>
                <a:latin typeface="Arial"/>
              </a:rPr>
              <a:t>انواع مرگ و صدور گواهي فوت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- مرگ بيماران پذيرش شده در بيمارستانها و مراكز درماني پيش از تشخيص بيمار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ث- هر نوع مرگي كه سوال مقام قضائي راجع به نحوه فوت مطرح باشد.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dbbd71"/>
                </a:solidFill>
                <a:latin typeface="Arial"/>
                <a:cs typeface="Titr"/>
              </a:rPr>
              <a:t>علت فوت  </a:t>
            </a:r>
            <a:r>
              <a:rPr b="1" i="1" lang="en-US" sz="4800" spc="-1" strike="noStrike">
                <a:solidFill>
                  <a:srgbClr val="dbbd71"/>
                </a:solidFill>
                <a:latin typeface="Arial"/>
                <a:ea typeface="Titr"/>
              </a:rPr>
              <a:t>Cause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املي ست كه بعداز وقوع  با ايجاد زنجيره اي رويدادها و تغييرات فيزيولوژيك منجر به فوت مي شود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لت فوت در ابتداي اين زنجيره است ، با برداشتن آن بقيه موارد رخ نمي دهد.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ause of Death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علت مرگ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عريف: علت مرگ يك بيماري و يا آسيب اتيولوژيك اختصاصي است كه با ايجاد اختلال فيزيولوژيك منجر به مرگ مي شو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اصلي يا مستقيم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زمينه اي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زمينه اي شروع كننده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a          b           c           d </a:t>
            </a:r>
            <a:r>
              <a:rPr b="1" lang="fa-IR" sz="2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مستقيم يا اصلي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راي مثال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1-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ا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thological Fractur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Secondary Carcinoma of femur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 Carcinoma of brea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Haemorrhagic shock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eritoneal haemorrhag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Rupture of liver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Road traffic accident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35280" y="9079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356000" y="9079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364000" y="9079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ابلوي فوت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ode  of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وضعيت فيزيوپاتولوژيكي است كه به هنگام فوت وجود داشته است و بيمار با آن فوت نموده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علل فوت متعدد است ولي      فيزيوپاتوژيكي زمان محدود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نارسائي قلبي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ARD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cs typeface="Zar"/>
              </a:rPr>
              <a:t>،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DIC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، هيپوو</a:t>
            </a:r>
            <a:r>
              <a:rPr b="1" i="1" lang="fa-IR" sz="2800" spc="-1" strike="noStrike">
                <a:solidFill>
                  <a:srgbClr val="ffffff"/>
                </a:solidFill>
                <a:latin typeface="Tahoma"/>
                <a:cs typeface="Zar"/>
              </a:rPr>
              <a:t>ل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مي، آريتمي، نارسائي تنفسي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نحوه فوت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anner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نحوه فوت در اصل شرائطي است كه علت فوت در آن شرائط ايجاد مي گردد ومتعاقب آن با تابلوي فوت منجر به وقوع مرگ مي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طبيعي</a:t>
            </a:r>
            <a:r>
              <a:rPr b="1" i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Natur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ادثه ا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Accident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ود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Suicid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icidal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يگر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determin   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غی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قابل تعيي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classified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بقه بندي نشد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a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2421000"/>
            <a:ext cx="8915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تائيد فوت فرد، عدم لزوم ادامه اقدامات درماني و احياء ، مجوز انتقال به سردخانه</a:t>
            </a:r>
            <a:r>
              <a:rPr b="0" i="1" lang="en-US" sz="5400" spc="-1" strike="noStrike">
                <a:solidFill>
                  <a:srgbClr val="ffffcc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مجوزي براي دفن جنازه نيست و در آن علت فوت قيد نشده است.</a:t>
            </a:r>
            <a:r>
              <a:rPr b="0" i="1" lang="ar-SA" sz="5400" spc="-1" strike="noStrike">
                <a:solidFill>
                  <a:srgbClr val="ffffff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268360" y="62064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tr"/>
              </a:rPr>
              <a:t>گواهي فوت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tr"/>
              <a:ea typeface="Titr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پروانه(جواز) دفن</a:t>
            </a:r>
            <a:r>
              <a:rPr b="0" lang="ar-SA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ffff"/>
                </a:solidFill>
                <a:latin typeface="Yekta"/>
                <a:cs typeface="Zar"/>
              </a:rPr>
              <a:t>علت فوت تعيين شده و يا بررسي شده است و دفن جسد از نظر پزشكي بلامانع است.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مسئوليت صدور گواهي فوت و جواز دفن با كيست؟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تقسيم بندي انواع مرگ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ural death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olent death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31111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وما چنين تعريف مي شود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اثير ناگهاني و كم و بيش شديد و يا مستمر يك عامل خارجي بر بدن با آثار مستقيم يا غير مستقيم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.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8105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اعلام كتبي فوت با پزشك است   ول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ين اورژانس و پيراپزشكان در صورت وضوح وقوع مرگ بصورتي كه شك و ترديد نباشد ، ميتواند بصورت شفاهي در صورت عدم حضور پزشك فوت را گواهي ك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cc66"/>
                </a:solidFill>
                <a:latin typeface="Tahoma"/>
                <a:cs typeface="Zar"/>
              </a:rPr>
              <a:t>ولي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 صدور دفن پزشكان هستند. بايد تابلو فوت وعلت فوت مشخص باشد كه در حيطه كادر پزشكي است و دندانپزشكان ، داروسازان و… مجاز به صدور جواز دفن نمي باش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س پزشك در زمان صدور جواز دفن بايد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بطور قطعي از وقوع فوت مطمئن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ابلوي فوت، علت فوت و در موارد قانوني نحوه فوت را مشخص نماي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در موقع معاينه بدقت به معاينه جسد بپردازد ، تا آثار ضرب و جرح و يا بافت غيرطبيعي در در بدن فرد او را از نظر نما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عيين دقيق علت فوت تا زمينه بررسي هاي اپيدميولوژيك و آماري فراهم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3840" cy="952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21a64"/>
                </a:solidFill>
                <a:latin typeface="Arial"/>
                <a:cs typeface="Titr"/>
              </a:rPr>
              <a:t>تشخيص مر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ابتدا از فقدان علائم حياتي مطمئن مي شوي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رفلكس ها را چك مي كنيم : مردمك ، قرنيه ، ته حلق ، چها سر ران و…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بي حركتي و پائين بودن دماي پوس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صورت امكان ديدن ته چشم و قطع جريان خو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 صورت امكان استفاده از وسائل مثل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Zar"/>
              </a:rPr>
              <a:t>EEG ,ECG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معاينه حداقل بايستي بيست دقيقه طول بكشد. (معاينه قلب و بررسي نبض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گواهي فوت استاندارد بايستي داراي چه اجزايي باشد؟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يت فرد فوت ش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ف- افراد داراي شناسنام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-جني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نوزا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كودكان فاقد شناس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مه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و محل معا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آدر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6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شخصات پزشك صادر كننده گواه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dbbd71"/>
                </a:solidFill>
                <a:latin typeface="Arial"/>
              </a:rPr>
              <a:t>نکته بسیار مهم ازنظر مراجع قضایی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آیا جنایتی رخ داده است یا خیر ؟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قسيم بندي انواع</a:t>
            </a:r>
            <a:r>
              <a:rPr b="0" lang="ar-SA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روما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فيزيك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مکان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لکتر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حرارت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رادیاسیو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بارو تروما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شيمياي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ی روان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NOn Suspicious death </a:t>
            </a:r>
            <a:br>
              <a:rPr sz="3200"/>
            </a:br>
            <a:br>
              <a:rPr sz="2800"/>
            </a:b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. 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چنانچه پزشك دقيقا" علت فوت ر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 بداند و اطمينان داشته باشد كه مرگ منحصرا" ناشي از يك بيماري بوده و هيچ عامل ديگري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  در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فوت بيمار مؤثر نمي باشد واحتمال وقوع شكايتي در آينده نم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یرود</a:t>
            </a:r>
            <a:r>
              <a:rPr b="1" lang="ar-SA" sz="2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28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spicious 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گر پزشك در مورد علت فوت و دخالت عوامل ديگري غير از بيماري كوچكترين ابهامي داشته و يا اينكه تشخيص بدهد كه تروما يا آسيبي علت فوت بوده و يا در فوت نقش داشته است و يا احتمال وقوع شكايتي را در آينده بدهد </a:t>
            </a: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ينصورت مرگ مشكوك بوده و جسد بايد به پزشكي قانوني ارجاع شو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bbd71"/>
                </a:solidFill>
                <a:latin typeface="Arial"/>
                <a:cs typeface="Titr"/>
              </a:rPr>
              <a:t>چه مرگهايي بايد به پزشكي قانوني ارجاع شود؟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b1da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21a64"/>
                </a:solidFill>
                <a:latin typeface="Arial"/>
                <a:cs typeface="Titr"/>
              </a:rPr>
              <a:t>الف- مرگهاي غيرطبيعي </a:t>
            </a:r>
            <a:r>
              <a:rPr b="0" lang="en-US" sz="3600" spc="-1" strike="noStrike">
                <a:solidFill>
                  <a:srgbClr val="d21a64"/>
                </a:solidFill>
                <a:latin typeface="Arial"/>
                <a:ea typeface="Titr"/>
              </a:rPr>
              <a:t>Un natural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متعاقب تصادف و حادثه (حتي اگر بيمار چند ماه بعد از تصادف فوت كند.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خودك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سوختگي ها و خود سوز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قت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مسموميت داروئي و شيميايي از جمله سوء مصرف مو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6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برق گرفتگي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232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7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غرق شدگي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8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شي از صدمات سلاحهاي سردوگرم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گهاني ، غيرمنتظره و غيرقابل توجيه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نزاع و مشاجره (حتي لفظي)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كودك آزاري يا شك به آن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حين كار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سقط جنين</a:t>
            </a:r>
            <a:r>
              <a:rPr b="1" i="1" lang="ar-SA" sz="4000" spc="-1" strike="noStrike">
                <a:solidFill>
                  <a:srgbClr val="dbbd71"/>
                </a:solidFill>
                <a:latin typeface="Arial"/>
                <a:ea typeface="Zar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ب- مرگهاي به ظاهر طبيعي در شرايط غيرطبيعي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 مرگ در بازداشتگاهها و زندانه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مرگ در خانه سالمندان و مراكز بهزيست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راكز نظامي، مجتمع هاي خوابگاه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ناطق دور افتاده و غيرمعمو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- مرگ ناشي از اقدامات درماني و قصور پزشك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عمل جراح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يا بعد از بيهو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قدامات درماني خا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شتباهات پزشك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حين درمان كه بيم طرح شكايت مي ر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0:59:39Z</dcterms:created>
  <dc:creator>ID SYSTEM</dc:creator>
  <dc:description/>
  <dc:language>en-US</dc:language>
  <cp:lastModifiedBy>khoshpey</cp:lastModifiedBy>
  <dcterms:modified xsi:type="dcterms:W3CDTF">2020-07-21T08:25:41Z</dcterms:modified>
  <cp:revision>55</cp:revision>
  <dc:subject/>
  <dc:title>انواع مرگها و صدور گواهي فوت</dc:title>
</cp:coreProperties>
</file>